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5B7-4331-48A3-A3E4-0E241781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14F-C84F-495E-848C-EADAA57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950-ECA0-4AD6-816D-A4A5A772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697-3DE9-4C00-87BE-85D9B5EE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069-08CD-447B-A9D8-F42865A7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416-5AFB-463A-B910-C9F7B75E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FD6-7F46-40B9-BC6A-FE837FEA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D0C-5721-4CEB-A0A4-2F12D8DE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E0F-07D3-4358-976A-53BE53E5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19D-55F5-4A77-914E-D0363B63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613-19E5-4EEB-ABB0-E7E3820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21B-FF83-4F7E-BB60-2BFDD31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9CA-8DF7-4049-A984-0C72F40A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ne way to describe a set of data is to find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,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 the averag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Step 1: 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Add the numbers in the set of dat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Step 2: 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Divide the sum by the number of 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addends in the se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457200"/>
          <a:ext cx="6476760" cy="3105000"/>
        </p:xfrm>
        <a:graphic>
          <a:graphicData uri="http://schemas.openxmlformats.org/drawingml/2006/table">
            <a:tbl>
              <a:tblPr/>
              <a:tblGrid>
                <a:gridCol w="3238560"/>
                <a:gridCol w="323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0" y="3733920"/>
            <a:ext cx="883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compare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riday’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7612"/>
                </a:solidFill>
                <a:latin typeface="Arial"/>
              </a:rPr>
              <a:t>number of mi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n,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02920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iday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7612"/>
                </a:solidFill>
                <a:latin typeface="Arial"/>
              </a:rPr>
              <a:t>number of miles</a:t>
            </a:r>
            <a:r>
              <a:rPr b="1" lang="en-US" sz="2800" spc="-1" strike="noStrike">
                <a:solidFill>
                  <a:srgbClr val="ff761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ve the 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n other words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iday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is higher tha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5400" y="4343400"/>
            <a:ext cx="91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iday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7612"/>
                </a:solidFill>
                <a:latin typeface="Arial"/>
              </a:rPr>
              <a:t>number of m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w or abov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calculate the mean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a given set of data and use to describe a set of dat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d the numbers in the set of dat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ivide the sum by the number of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dends in the se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ep 3: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ompare desired score to 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, or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verage sco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905120"/>
            <a:ext cx="859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ne way to describe a set of data is to find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,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 the averag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95280" y="2895480"/>
          <a:ext cx="6172200" cy="33022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the number of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95280" y="2895480"/>
          <a:ext cx="6172200" cy="33022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the number of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62916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+12+14+12+17=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vide by the numbers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2895480"/>
          <a:ext cx="6172200" cy="33022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vide by the numbers of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2767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 / 5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19320" y="1905120"/>
          <a:ext cx="6476760" cy="3105000"/>
        </p:xfrm>
        <a:graphic>
          <a:graphicData uri="http://schemas.openxmlformats.org/drawingml/2006/table">
            <a:tbl>
              <a:tblPr/>
              <a:tblGrid>
                <a:gridCol w="3238560"/>
                <a:gridCol w="323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280" y="5410080"/>
            <a:ext cx="821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number of miles per day is 1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7:15:57Z</dcterms:created>
  <dc:creator>Office 2004 Test Drive User</dc:creator>
  <dc:description/>
  <dc:language>en-US</dc:language>
  <cp:lastModifiedBy>Office 2004 Test Drive User</cp:lastModifiedBy>
  <dcterms:modified xsi:type="dcterms:W3CDTF">2008-10-05T15:56:03Z</dcterms:modified>
  <cp:revision>8</cp:revision>
  <dc:subject/>
  <dc:title>Line Graph  -uses points connected by line segments to show data - shows how data change over time   </dc:title>
</cp:coreProperties>
</file>